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50A7-B4DB-4EF2-9969-050FDB35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63A6-244A-4470-A1FF-4C734239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A30C-3704-4E9E-94E1-1CA95F24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E06-CD8A-49EA-BE24-B28A28C6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0B3D-173F-4616-A73D-592347EB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23B9-2535-47DE-9E63-17FE0B00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DFF1-DBEA-41F2-A4BB-0C4B1CF8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E3C1-13F0-4A43-A578-B84E244D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C5A2-5CD5-4238-8E87-B6FF3C28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9DA3-FBD7-43F4-9568-FB5508FB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B714-2D81-4BB1-B800-295FD672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9BE1-0840-44FE-870D-444E67CF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CBD7-60B0-422D-BDA3-3E338965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2355-D23B-449E-94A0-BA957EE6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2105-A6DF-417A-8CFF-41D466A8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7B7C-8C78-4DB9-BC79-5DE6AA8F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0B6F-68B7-45CF-9F87-9D7CFE20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F9B-A870-4B57-B569-2F2C7928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ADB-AD59-4B87-BA29-F9C80B5E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5D9-FE76-4AC4-A0AD-C3BF973D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A10A-EDE3-4444-A9BB-755968FE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EA6-6AAC-4F4A-AD28-00CAF056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FA3-FFCA-413D-9FF2-D23BC272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BCE9-5114-4DF3-AB10-F3CE88A9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C129-AA31-4FF8-B4A8-BF3C3C202205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9E57-C988-4588-A27F-A48F0E66E734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1143000"/>
            <a:ext cx="6994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0033"/>
                </a:solidFill>
                <a:latin typeface="Times New Roman"/>
              </a:rPr>
              <a:t>PAŽINIMO PROCESAI: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JUTIMAS IR SUVOK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SPALVOS PASTOVU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0560" y="2643120"/>
            <a:ext cx="75484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KLAUSA 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Amplitudė, daž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Ausis: vidurinė a., vidinė a., sraig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KITI JUTIMAI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yta: spaudimo, šilumos, šalčio ir skausmo derinys; Melzacko ir Wallio „vartų kontrolės“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konis: saldu, rūgštu, sūru ir kar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osl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ūno padėtis ir judėjimas - kinestez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UVOKIM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uvokinys - sąmonėje susiformavęs daikto, reiškinio ar įvykio visumos atspind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ercepcija – patyrimo įtaka suvokim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UVOKINIO KŪRIMAS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Formos suvokimas: grupavimo taisyklės (artumas, panašumas, ištisumas, uždarumas, susietum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8000" y="3357720"/>
            <a:ext cx="5042160" cy="316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635280" y="33051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  <a:ea typeface="Arial"/>
              </a:rPr>
              <a:t>Fonas - figū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Laiko suvokim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inis laiko interval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mažiausias tarp dviejų įvykių juntamas laiko tarp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ituacijos pobū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tyv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mžiaus faktor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Gylio suvokimas:</a:t>
            </a: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 </a:t>
            </a: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trimačių objektų matymas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Binokuliniai signalai: atvaizdų skirtumas tinklainėse, akių konverg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nokuliniai signalai: santykinis dydis, sanklota, oro perspektyva, tekstūros gradientas, santykinis judėjimas, tiesinė perspektyva, santykinis skaistis, santykinis aukš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24360" y="4653000"/>
            <a:ext cx="21607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SUVOKIMO PASTOVU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Formos ir dydžio suvokimo pasto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ydžio suvokimo pasto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onzo iliuz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564000" y="3284640"/>
            <a:ext cx="49816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SUVOKINIO ĮPRASMIN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ulller-Lyerio iliuz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ostatos, apercepcijos sch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00720" y="4365720"/>
            <a:ext cx="382896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http://www.michaelbach.de/o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79280" y="1447560"/>
            <a:ext cx="8676720" cy="3392640"/>
            <a:chOff x="179280" y="1447560"/>
            <a:chExt cx="8676720" cy="3392640"/>
          </a:xfrm>
        </p:grpSpPr>
        <p:cxnSp>
          <p:nvCxnSpPr>
            <p:cNvPr id="100" name="_s34830"/>
            <p:cNvCxnSpPr>
              <a:stCxn id="101" idx="1"/>
              <a:endCxn id="102" idx="2"/>
            </p:cNvCxnSpPr>
            <p:nvPr/>
          </p:nvCxnSpPr>
          <p:spPr>
            <a:xfrm rot="10800000">
              <a:off x="2908800" y="2424960"/>
              <a:ext cx="283320" cy="212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34829"/>
            <p:cNvCxnSpPr>
              <a:stCxn id="104" idx="1"/>
              <a:endCxn id="102" idx="2"/>
            </p:cNvCxnSpPr>
            <p:nvPr/>
          </p:nvCxnSpPr>
          <p:spPr>
            <a:xfrm rot="10800000">
              <a:off x="2908800" y="2424960"/>
              <a:ext cx="283320" cy="1323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34828"/>
            <p:cNvCxnSpPr>
              <a:stCxn id="106" idx="1"/>
              <a:endCxn id="102" idx="2"/>
            </p:cNvCxnSpPr>
            <p:nvPr/>
          </p:nvCxnSpPr>
          <p:spPr>
            <a:xfrm rot="10800000">
              <a:off x="2908800" y="2424960"/>
              <a:ext cx="283320" cy="518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_s34824"/>
            <p:cNvSpPr/>
            <p:nvPr/>
          </p:nvSpPr>
          <p:spPr>
            <a:xfrm>
              <a:off x="179280" y="1447560"/>
              <a:ext cx="5461560" cy="9781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ŠORINIŲ STIMULŲ POVEIKIO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HEM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34825"/>
            <p:cNvSpPr/>
            <p:nvPr/>
          </p:nvSpPr>
          <p:spPr>
            <a:xfrm>
              <a:off x="3192480" y="2654280"/>
              <a:ext cx="5663520" cy="576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OS ĮVEDIM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34826"/>
            <p:cNvSpPr/>
            <p:nvPr/>
          </p:nvSpPr>
          <p:spPr>
            <a:xfrm>
              <a:off x="3192480" y="3459240"/>
              <a:ext cx="5663520" cy="5760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OS APDOROJIM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34827"/>
            <p:cNvSpPr/>
            <p:nvPr/>
          </p:nvSpPr>
          <p:spPr>
            <a:xfrm>
              <a:off x="3192480" y="4263840"/>
              <a:ext cx="5663520" cy="576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OS ĮPRASMINIM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AGRINDINĖS SĄVOK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353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utimas –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ai procesas, primityviai atspindintis daiktų ir reiškinių savybes ar organizmo vidinę būseną, kai tai tiesiogiai veikia jutimo organ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ojūtis (jutimo proceso rezultatas)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— adekvatus dirgiklio, arba stimulo, vaizdas mūsų smegeny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uvokim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psichinis procesas, daikto ar reiškinio vaizdo formavim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ensorinės sistemos -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sistemos, kurios priima išorinius signalus, atlieka jų analizę ir priima sprendimą, koks objektas veikia jų įėjim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ojūčių skirstymas</a:t>
            </a: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(sensorinės sistemos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viesos (reg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ustinius (klaus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nius (uoslė, skoni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tilinius (lyt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motorinius (vestibiulik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usmo, temperatūros, vidinės organizmo būsen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nio lauko(?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strasensorinius(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BENDRIEJI POJŪČIŲ YPATUM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dal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ntensy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rukm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atentinis lai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imtis, tank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autris (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sakomas pojūčių slenksčia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OJŪČIŲ SLENKSČI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bsoliutus žemutinis slenksti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mažiausias dirginimas, kurios reikia konkrečiam dirgikliui aptik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kislenkstinis dirg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kirtumo arba skyrimo slenksti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- mažiausias dviejų dirgiklių skirtumas, kurį 50 % atvejų gali aptik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smu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ėberio dėsni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: skirtumo slenkstis yra ne pastovus kiekis, bet tam tikras pastovus dirgiklių santy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utimų adapt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REGA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yzdys, rainelė, lęšiukas, akomodacija, tinklainė, stiebeliai (lazdelės), kūgeliai, akloji dėmė, regos nervas, požymių detektor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76360" y="3573360"/>
            <a:ext cx="56768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EGA: SPALVŲ SUVOK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Youngo ir Helmholtzo trijų spalvų teorij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: tinklainėje yra 3-jų rūšių spalvos receptorių: kiekvienos jų receptoriai yra ypač jautrūs vienai iš trijų spalvų (žalia, mėlyna, raudo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Oponentinių procesų teorija (Heringas)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: palikusi receptorius, regimoji informacija toliau analizuojama priešingų spalvų požiūriu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800" spc="-1" strike="noStrike">
                <a:solidFill>
                  <a:srgbClr val="330033"/>
                </a:solidFill>
                <a:latin typeface="Tahoma"/>
              </a:rPr>
              <a:t>Oponentinių procesų teorija (pvz.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08280" y="1692360"/>
            <a:ext cx="61214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53:02Z</dcterms:created>
  <dc:creator>TADAS</dc:creator>
  <dc:description/>
  <dc:language>en-US</dc:language>
  <cp:lastModifiedBy> </cp:lastModifiedBy>
  <dcterms:modified xsi:type="dcterms:W3CDTF">2007-09-13T22:08:20Z</dcterms:modified>
  <cp:revision>24</cp:revision>
  <dc:subject/>
  <dc:title>Slide 1</dc:title>
</cp:coreProperties>
</file>